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7.gif" ContentType="image/gif"/>
  <Override PartName="/ppt/media/image8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54DA-7FFB-4022-B311-98FB576C7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0151-8369-4D82-811E-4ED2C33F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B69F-6C05-44ED-8E38-5AB4C195E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E056-E608-4EFA-B58E-4E123BC07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3B90-7712-4B80-AC3B-0B193398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9815-8CAC-4D41-B49B-53A52A03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D1D2-837F-4556-813F-455ECCB9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1EC9-584E-463D-BC11-23242A72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109C-5D72-4954-B2F3-0C810D5C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1299-4061-46F1-A405-FFE64B74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2FF6-8190-4550-8640-A477C46F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9806-DA04-4A11-98BA-97DFF770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2CD4B-681B-44D6-81B9-0E0D73937398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79280" y="0"/>
            <a:ext cx="10260000" cy="75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9640" y="746280"/>
            <a:ext cx="9070920" cy="75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3640" algn="ctr">
              <a:lnSpc>
                <a:spcPct val="118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ff0000"/>
                </a:solidFill>
                <a:latin typeface="Arial Black"/>
              </a:rPr>
              <a:t>Toda criança no m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118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ff0000"/>
                </a:solidFill>
                <a:latin typeface="Arial Black"/>
              </a:rPr>
              <a:t>Deve ser bem proteg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118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ff0000"/>
                </a:solidFill>
                <a:latin typeface="Arial Black"/>
              </a:rPr>
              <a:t>Contra os rigores do t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118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ff0000"/>
                </a:solidFill>
                <a:latin typeface="Arial Black"/>
              </a:rPr>
              <a:t>Contra os rigores da v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118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118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ff0000"/>
                </a:solidFill>
                <a:latin typeface="Arial Black"/>
              </a:rPr>
              <a:t>Criança tem que ter n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118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ff0000"/>
                </a:solidFill>
                <a:latin typeface="Arial Black"/>
              </a:rPr>
              <a:t>Criança tem que ter 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118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ff0000"/>
                </a:solidFill>
                <a:latin typeface="Arial Black"/>
              </a:rPr>
              <a:t>Ter saúde e não ter f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118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ff0000"/>
                </a:solidFill>
                <a:latin typeface="Arial Black"/>
              </a:rPr>
              <a:t>Ter segurança e estud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-179280" y="2160720"/>
            <a:ext cx="3419280" cy="486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3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3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3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3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3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3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3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155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1155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8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115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8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115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8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03280" y="1768320"/>
            <a:ext cx="9070920" cy="51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Não é questão de que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Nem questão de concor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Os diretos das crianç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Todos tem de respeit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Tem direito à aten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Direito de não ter me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Direito a livros e a pã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Direito de ter brinque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98600" y="1440000"/>
            <a:ext cx="2381040" cy="3419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199280" y="2340000"/>
            <a:ext cx="2879640" cy="4680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02920" y="1768320"/>
            <a:ext cx="9070920" cy="498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3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3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3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3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3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3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3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3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6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6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6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6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619280"/>
            <a:ext cx="1008072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Mas criança também 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O direito de sorr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Correr na beira do ma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Ter lápis de colorir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Ver uma estrela caden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Filme que tenha rob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Ganhar um lindo presen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Ouvir histórias do av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1800360"/>
            <a:ext cx="3240000" cy="50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3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3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3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3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3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3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3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3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0720" y="2160720"/>
            <a:ext cx="8820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Descer do escorregado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Fazer bolha de sabã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Sorvete, se faz calo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Brincar de adivinh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Morango com chantill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Ver mágico de cartol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O canto do bem-te-v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Bola, bola,bola, bol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20720" y="2160720"/>
            <a:ext cx="2519280" cy="41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dur="indefinite" fill="hold">
                      <p:stCondLst>
                        <p:cond delay="indefinite"/>
                      </p:stCondLst>
                      <p:childTnLst>
                        <p:par>
                          <p:cTn id="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0360" y="206280"/>
            <a:ext cx="8999640" cy="68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E quando a noite chega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Um bom banho, bem quentinh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Sensação de bem-estar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De preferência um colin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Uma caminha maci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Uma canção de nina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Uma história bem bonit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Então, dormir e sonhar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Embora eu não seja re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Decreto, neste paí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Que toda, toda cria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Arial"/>
              </a:rPr>
              <a:t>Tem direito a ser feliz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1840" y="1440000"/>
            <a:ext cx="282888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dur="indefinite" fill="hold">
                      <p:stCondLst>
                        <p:cond delay="indefinite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dur="indefinite" fill="hold">
                      <p:stCondLst>
                        <p:cond delay="indefinite"/>
                      </p:stCondLst>
                      <p:childTnLst>
                        <p:par>
                          <p:cTn id="2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600" fill="hold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6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2:47:58Z</dcterms:created>
  <dc:creator>almirante </dc:creator>
  <dc:description/>
  <dc:language>en-US</dc:language>
  <cp:lastModifiedBy>almirante </cp:lastModifiedBy>
  <dcterms:modified xsi:type="dcterms:W3CDTF">2010-12-06T13:11:58Z</dcterms:modified>
  <cp:revision>4</cp:revision>
  <dc:subject/>
  <dc:title/>
</cp:coreProperties>
</file>